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2DF-9F74-4C09-AFED-F8C6D859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685-A472-4045-AB33-07441365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84D-24F0-4543-8C62-3BD385F1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42C-8B87-484D-9D68-7F4E646E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ECA8-DF52-4FFC-8208-66DE6B8D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7B0-2B76-48E1-946D-CC406F01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71E-6D21-491C-B605-29A430E7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F77-69E9-4A08-93C5-6296C448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7EE-DFB1-46D3-8B0F-94FB0E81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B93-6890-4084-A9BA-04D0BB81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819-2536-4A61-BC95-F383F9F1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C7D-B771-4A05-B9E4-691F3AF3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EC80-DE9C-452E-958A-F54838306D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843280" y="2060640"/>
            <a:ext cx="2714760" cy="1774800"/>
            <a:chOff x="2843280" y="2060640"/>
            <a:chExt cx="2714760" cy="1774800"/>
          </a:xfrm>
        </p:grpSpPr>
        <p:sp>
          <p:nvSpPr>
            <p:cNvPr id="42" name=""/>
            <p:cNvSpPr/>
            <p:nvPr/>
          </p:nvSpPr>
          <p:spPr>
            <a:xfrm>
              <a:off x="4380120" y="33796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68840" y="28749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660840" y="28749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80120" y="22986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100840" y="28749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43280" y="28382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35280" y="28382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54560" y="334332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54560" y="22622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75280" y="2838240"/>
              <a:ext cx="360360" cy="36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7" idx="6"/>
              <a:endCxn id="48" idx="2"/>
            </p:cNvCxnSpPr>
            <p:nvPr/>
          </p:nvCxnSpPr>
          <p:spPr>
            <a:xfrm>
              <a:off x="3203640" y="3018600"/>
              <a:ext cx="432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48" idx="7"/>
              <a:endCxn id="50" idx="3"/>
            </p:cNvCxnSpPr>
            <p:nvPr/>
          </p:nvCxnSpPr>
          <p:spPr>
            <a:xfrm flipV="1">
              <a:off x="3943080" y="2570040"/>
              <a:ext cx="464400" cy="32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" name=""/>
            <p:cNvCxnSpPr>
              <a:stCxn id="48" idx="5"/>
              <a:endCxn id="49" idx="1"/>
            </p:cNvCxnSpPr>
            <p:nvPr/>
          </p:nvCxnSpPr>
          <p:spPr>
            <a:xfrm>
              <a:off x="3943080" y="3146040"/>
              <a:ext cx="464400" cy="25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" name=""/>
            <p:cNvCxnSpPr>
              <a:stCxn id="49" idx="7"/>
              <a:endCxn id="51" idx="3"/>
            </p:cNvCxnSpPr>
            <p:nvPr/>
          </p:nvCxnSpPr>
          <p:spPr>
            <a:xfrm flipV="1">
              <a:off x="4662360" y="3146040"/>
              <a:ext cx="465840" cy="25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"/>
            <p:cNvCxnSpPr>
              <a:stCxn id="50" idx="5"/>
              <a:endCxn id="51" idx="1"/>
            </p:cNvCxnSpPr>
            <p:nvPr/>
          </p:nvCxnSpPr>
          <p:spPr>
            <a:xfrm>
              <a:off x="4662360" y="2570040"/>
              <a:ext cx="465840" cy="321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" name=""/>
            <p:cNvSpPr/>
            <p:nvPr/>
          </p:nvSpPr>
          <p:spPr>
            <a:xfrm>
              <a:off x="3040920" y="2643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28520" y="2550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92160" y="2060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44360" y="3558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92000" y="2622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37640" y="712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6:45:31Z</dcterms:created>
  <dc:creator>Hugh Lewis</dc:creator>
  <dc:description/>
  <dc:language>en-US</dc:language>
  <cp:lastModifiedBy>Hugh Lewis</cp:lastModifiedBy>
  <dcterms:modified xsi:type="dcterms:W3CDTF">2009-01-31T14:50:42Z</dcterms:modified>
  <cp:revision>24</cp:revision>
  <dc:subject/>
  <dc:title>Slide 1</dc:title>
</cp:coreProperties>
</file>